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6FB1-61CC-44F9-80B7-8B6E5C83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183-4104-4ECD-92FD-DC3DA2A5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AA870-A401-4410-8AA6-FCCDBFB4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C28B2-1414-4086-B0D8-33ED22B8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DA7C8-A5C7-4FDE-9D82-46363BEE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A380A-7604-4D74-90A6-5F0A58E2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D377A-DFF6-46A8-BF47-2EA01F21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00D38-9700-49CD-B676-18914333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AEF94-B7F2-477E-9645-85BD5588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7DFD8-B8D5-4901-A021-2C15EEB2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D6564-5428-45B7-83ED-417DFE3A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3C15D-09CF-46EE-AEF2-5B4D5792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706-CB08-48C8-9A1A-AB72C73C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C0552-7A91-4BC9-9E77-F1E7A0B1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8D95C-6D2B-43D2-B698-30818630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EE477-B36B-4C15-A46F-F82CA073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F96D9-DEB3-4141-9405-D4B69878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B5111-D911-4052-A5C2-3E38076B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25C02-3AAB-4C98-BC86-ECD6C4F3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CB833-144B-4C1C-A459-1EB981CA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78A01-A430-4875-9DD6-AA91E2C4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2084F-A7BB-471C-8C8B-52E4BB42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7C2A8-E9EB-43F2-BD19-33B793AC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BC3-83FA-41FF-AB45-61BD3D16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E133A-4371-46BA-8151-40124232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B19A1-0585-4268-A5DC-22CF01C0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36160-216B-4D34-A137-AE0317D2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33EF3-E99B-4F63-A8D4-167BD1B3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6F906-0920-450A-8298-2C80B791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E6DA2-2457-42FB-907E-DFCC293F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A81ED-6066-4EBA-9626-6BA712AE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58271-9DCD-4DFD-899B-353338A9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ED73A-D1CF-41FE-A582-745E48D7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E029F-818C-4933-963F-9DA0DAA8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D71C-2A7C-4C97-BAED-DBB62856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3A53B-34AC-494B-BCAD-EA5C8076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C6989-4A2D-4DBB-A993-8ED625F6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E606F-9DAE-4A97-8160-DC0E804F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560DC-714E-4AD8-BD25-2F8429B6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2D7DB-4060-404E-B290-41DF624D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A1A50-C3C9-4F42-A164-E5F0A7D3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DA8D9-1082-493D-A977-133F5A7D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56CBC-5558-4C5A-B363-FA0C277D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18592-7B6D-4664-BF89-F0BFCDDD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5338D-2634-4559-877F-E4B0099A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DD60-76E3-4CA5-A169-B0519CD2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9C3A9-36C8-4646-A34F-C2DFE0F7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B6DF7-CA97-492D-86CD-42BB0C46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C8B85-D46E-4D8D-8831-C4F9A17A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BEAC2-9DB5-4C0F-8F31-340D7649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53438-EAD5-40D1-8E07-35AE0C21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21191A-6075-4F79-B1DF-E5AB519A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516C0-2019-4B4B-9AAA-AA4107E5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208A1-DEAC-4360-8674-2A2B7721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FC812-A512-457A-BFC7-1D881838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3D2DFF-0C42-4AAA-836F-CB6C0F3F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1BB4-35E3-4569-9070-A67C14EC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572FE-39CB-4A3B-B8F9-4BEED90B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869928-8EBD-4F6E-9B07-09086355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32C804-1A42-435D-A71F-34997039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59344-DC52-4675-A504-7E584E1F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1DE7C-C60A-42D0-85FA-9964B8E5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FC515-0784-4A5E-A2C0-9E6BACAD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C860D-2F8B-4E31-B6A8-364E3AEB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329499-557C-4CB9-B721-6F39162C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8D90AA-9E8D-470D-91BB-BE14769A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B8846-3A22-42D6-AC5D-E8B54657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82C9-D200-49CE-931D-D2D5AA55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1E3FDB-01D2-4ACD-9ACB-053BF5C7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98910-2774-4A67-8ED9-CE44220A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B6C27-6EF3-4635-BF65-FA279E7C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F2C09C-A58C-46B4-97C4-1DEC6B54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FFE123-520D-4B4A-BFEC-80D7B6C0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E23302-F563-4044-A360-58D4BECD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5CE606-187B-4B14-8655-7740B38D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2739AD-7B0A-4586-8FB1-C4260308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B9E36D-6B4F-4536-81F7-F563ABD9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13CD61-CF3F-47CA-8D25-B93CA3DC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EBE8-A92F-4A07-9D22-BC3DEC0E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4B9E2D-27DE-4723-925B-1BE8BE64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55E593-9C75-4B55-A299-3A54E714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B3E3DF-90FF-496A-AA2A-E95C2150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EC3DE9-1D90-4E2E-87A1-941D576C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F8A055-527B-464F-9B52-010BE1FC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6C9E97-1EE0-420D-B618-81659E6C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E0A274-15F2-41E8-B848-5FE2F7AB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67B23-C854-4C4C-8013-DA200B65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AB1C0A-6175-4AB9-A5BD-C02525B6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5231B4-C152-49B0-8BD2-3F8FE3D7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09EE-F0EB-4058-9F12-5F1C066F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2EA227-AF83-42EA-A1FD-BC9693C7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C6D259-CB8F-4F46-91F2-59036DCA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6DEFB0-4A58-4484-BE8C-3FE285D1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082955-319B-4CDF-9309-81518371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26FE1B-1AA4-4042-AF01-74701976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DC02A3-6F2F-4494-8775-5258ED71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647F95-2801-4D8E-AFD0-D605D10D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C1517D-CFC0-4805-AB3B-25F552CB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9A0814-6BB6-4A40-BFF9-049893DB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664906-3A48-4027-8FDF-A0873D6A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4DA2-17EA-44CE-8745-45208458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8C2C95-CDF5-4701-87F8-BCFA4DA2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7D971F-8FBF-4FCF-BB71-B60E1858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96521C-2696-4CF3-9B0A-4B9C4D92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3EAC16-1C79-4979-9C16-5A18756A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D12E90-32F0-4A98-AB43-39785539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2687A1-4641-4627-A128-F4A3E84C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FBADDC-60A4-4CBA-8BB0-1CB5F677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5563B1-C720-4329-8A65-5FC217F8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C31975-20B2-4EF3-832C-2B61E97C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FFF48B-C394-45F7-A7BF-C0675B8E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4007-F2FF-470A-83C2-0CC5D7E3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E797-FA59-43ED-AF68-9398D8B7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A9C9CE-051A-4694-8D96-1F2F3DC4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8E67E1-6CD2-4311-BA33-96780B83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EF9FFE-A04F-49D4-84DD-0BF98362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A1242A-D727-4746-BDFD-7064E71A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22C589-3574-4520-B671-099A9458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B4BFBA-ECC7-4E6E-91DB-3EDA1927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CFFB34-332D-4709-A879-755DB7A3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8467CE-BA1C-4E6B-B988-1845A63A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BD891A-06ED-4F58-BFF2-78B65F60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72E22C-4128-43F6-8994-346E9071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0549-9D44-4E8E-9955-22850C11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8FAB4C-A43D-45FC-8CF9-0C795B95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BB2721-25A3-4C23-A8FA-F958539D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272756-64CF-4F31-91F6-8A737F9B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DC5243-FC90-4CE3-89BF-A30BBBC3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DD9501-DCB1-4A8B-A0BE-1E8AE3D1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A78CEC-B29A-4B74-BBD6-9A205F71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3CB792-4FD1-4391-A9A8-0E714C6F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54BCEC-9253-42B2-89C7-303F2242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37E837-460F-454F-9B90-2BFC78E1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1CD6FE-CFDC-4EE8-9323-163EB98C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9C30-EFEE-4994-9982-E5361770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60A606-850F-4B44-8228-6057B32C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F667CB-651E-4043-9D5D-EAF46711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8E32E2-E181-4347-B9BB-62D2F93C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86CC5F-B631-4F93-87D1-CADD1C33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3F96B4-648B-4B95-B4EE-F48A3ED7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17B2C8-88E9-4FC0-8C22-495B4726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DFB2A7-A11A-4A79-BEFD-53354F87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50B0FE-4D09-4006-A0CC-D9EE7741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49A4A1-DEF5-4167-8CB6-DF771279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2C0238-62C8-448A-B35D-58D12FE0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7771-04B0-471E-A85F-5640DBD8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E325BE-30D5-4A3C-9987-F48CF12D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99101B-BCB3-4A3C-AF1D-A06445BB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D18101-16F1-4685-A096-BD926CB3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6F20ED-576D-4664-BEF8-2BB9B7DC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6D9E48-FB05-4BF2-A25C-376F4D7A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33BDF2-04D1-480B-8773-29428098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FA3F03-A44C-4384-A61D-88B51162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090A8B-F018-4845-BCAC-238E3E6A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4008C1-6AB1-4ED8-9142-2C08074D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E45DFA-0852-43E9-85E4-F6FA708B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CBF0-5387-4C96-B635-133D9DD0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A77634-16A5-4412-B4E5-45CB2145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A77B70-EB0F-467B-AD43-09DACBEA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4E0B25-C3F7-4724-93FC-F94554F2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C98CA1-D94F-44FA-A573-D65FDEF7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E1FFC1-F630-43D8-A8CC-A6D69501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876E5A-9A72-4B25-9DD7-C2662F97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0B321B-2A74-4557-9207-3FB85DBF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318137-537C-42B9-ACF9-E9D4F645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638765-948F-440D-88AF-80809406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D4309C-520A-4739-8BF8-FAE775E8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78617-35C6-4739-8049-9088DFBE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5B3632-3416-48C4-8714-87D705D5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6FEF8C-6903-42F4-8ABD-ED2D855C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BD16D9-CCD9-4928-8913-3F89ADFF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BE41D-2F37-45E2-ADF7-44894F63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A979C-3C4B-4A09-AB03-C005C06C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71098-3F1D-4CEA-9383-6C5BE333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2194D-8AEF-493E-B984-F92C863B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EAE-5BF9-45A6-8BB8-6B2C46AF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B8886-06FF-4848-A500-3B9B1884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1B92F-13D1-4487-9CCB-694D0BBA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F5F18-CA75-49B9-9696-F4ADC9C1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71EA6-CE71-4D95-89D3-DDC8C717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BEBE3-ABD8-488F-8B84-18D92E05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C9266-4FB8-4D50-B781-007E24C8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C1513-D39E-4241-A383-C6E00146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02CA1-8574-416E-9841-A5374C0B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8D939-E394-46D1-B687-499F1164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79879-6F08-442C-8C2C-371D2E0F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84B-7C1F-4493-8E91-4DFC45AC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AADA7-4DE6-4414-956D-5540E606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2E4F2-1164-4EF8-982C-820C3C0C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9CB85-EAA3-49AE-A354-F2090A36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E3D50-8E1B-4B4B-A50E-363BB86B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BDF84-5548-449A-88BB-EA0B1DC1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C297E-026A-4B33-8BE2-1D84525F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D2AEE-9BBE-4925-B650-2323B13F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21BB3-66AB-4981-B1C8-E9F84D61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86027-239C-4EF8-B3F9-FE1B974E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079A1-084D-49CE-A4D4-5D5241F1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9792-7F83-471F-8C3D-BA6723DF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905F5-4864-4C92-8EBE-333DCE22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3161C-D6FA-4135-9430-CBE4B973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20707-29BE-4225-957E-B223844B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E8D16-394E-49EF-A6D0-68A53688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79066-5466-4577-8E65-8E8B152B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5B0E3-DFFA-49DD-97B9-9E6A50AD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32614-483D-462D-8F8F-E973A98E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51F57-A283-457E-84AF-2874ED1B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21E21-7D55-40EA-8892-B1C948C4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7F3F4-5606-4832-86ED-44F41250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6825-D900-4921-B542-62A726BE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AC3A2-009D-4FBE-91C7-24B16E60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0C88D-157D-4C5A-824E-22CD9194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39C9E-EABC-4B83-B507-9BBA10F7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43434-B7DA-4EF0-B12A-37D094ED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7E412-5FB3-4D87-AD2A-37AE04F7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BDA73-3048-4845-9A33-4F05092D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1726C-23C6-4D5E-B4FB-53632EED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DEB7F-37EA-4285-902D-2A357E2E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687FA-7D08-4662-8D94-3EDC5CF4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5B6F2-1B55-44B9-98E9-1F63C41C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9B8D-1714-4584-ACD5-82FE328B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14CF7-A872-4619-BBD3-EC0A8A2B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62CB4-EA01-463C-8E61-C8A0F80E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BD348-5878-483B-9BF1-E03829B6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28DD8-D54F-4BF4-BA13-FBDDCD40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BC04D-B655-41F4-B3A9-29A02DF7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6DDDC-78AE-4775-9751-10A379DC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77A37-734D-44A6-89D6-A0E755B7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54835-9028-477E-99BE-283BF7CD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43612-469D-4E5B-B977-C70B0667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C47CB-D351-4BB0-9D95-4539BFFB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EDC-CCAF-4812-A569-94116A28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9A2A8-9FE2-4987-A6B1-CA2B7F38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A382F-9839-43F0-98BC-98D1C3B9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EE7C9-46A0-430B-8BFD-2C21830A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21730-AFC4-4452-8DF9-B76332A0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D37D5-5426-458E-94A7-DD1C6E8E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620AD-DFF1-4AED-97D4-86F09C15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6393D-3261-49C4-81C5-D16774D7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D4E28-D194-4737-891D-50DA1FCA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4C96F-46D5-4E8B-A7A5-8CEE2D9B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EF266-762B-4EA4-9C42-694C6DAD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F83-1BEE-4F6D-9174-370210FD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49131-4EE1-451C-9366-1B489EBE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5254A-9F20-4BE5-98BB-03E29012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E649E-C5D6-404A-B262-BC4E2398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08E80-4A1B-4487-AE50-17ECA85C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B43FA-F732-4F59-9AE9-E804BD08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B6FF0-5CB9-4808-AF39-60BAD0E6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5DCC2-95AF-43A3-828B-CA763EFF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33530-8EE4-4A12-8108-F51C4F64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71317-EBA7-4849-B09D-0F02B16B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ACD5C-B6C6-4061-975C-9001BE48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F685-A9D3-41C4-A685-B0D8E8E9C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A70F-CA58-491C-98DC-21939DA74C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E177-326A-4F8C-AA5B-68FFBD5882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86A8-A8FD-486A-919A-3B53632252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B68E-BA51-4FA3-8479-E74AC478A1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305A-B5FC-4A1A-8CDB-469C871226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AF92-EC3B-430B-860E-101E872D13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67AD-797A-4221-A44A-F262FE5C87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B8BB-BFDD-49BA-AE3D-A519C75815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6B2D-291E-4CA9-8A0F-053EB17628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513B-B5E0-4306-94B8-98250E164C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385B-8CB3-4ABB-8176-AA3C7E8403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6EA0-9AA0-40D1-9ADD-860A96DB6D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D683-0282-47B1-9AE7-EDC79F131B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556F-C11B-44DC-A6BE-3E562673CA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51E0-108A-4F17-AF87-FFD6EB7DC8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C969-4109-4FF2-8BC7-887BDAB7F2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EA49-1209-4ADE-AD5D-9D80D0A280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FA32-E520-4AE8-9038-B6D598719A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5810-18B1-4D0D-9354-81F850CF55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76E1-DDD3-4A5F-AB32-21714796E0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BA02-F492-4FCC-AE35-30C03B1617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D01C-48E9-49FB-8BA2-966485BB92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432C-6AD2-4FD3-999F-906251EDEC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195A-9119-4E48-98DE-9D3FA3C866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9539-6FB7-485B-B146-D21C71B91D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3929-8C05-4480-AABE-4CE7E8E273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4F48-4E73-43E0-B449-D1E1E1685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BF2A-81F9-4EE5-ACF5-EADE3EDB1C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D5F8-8847-4D70-B982-678875530B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225F-8218-48D7-89CF-E25308BF80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CFD1-7104-4697-837A-B09859DF1F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80EC-5A9D-4A4F-9626-88C58D8397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C5BA-7C85-4651-8CF8-5EE7750CB0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0F09-4A04-4CA9-837A-9BDBE8A850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4D06-80A1-44B1-82A4-E6FDFFDF3E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8AB9-DE60-48BB-ABDB-0C29F72EB0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3AA9-4CBC-4AEF-855E-778336CA94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F8E4-2549-413F-A6E2-69207B5D1F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10D4-31F3-4E40-BE91-A7C07E4C4C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50180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28440" y="1057320"/>
            <a:ext cx="9087120" cy="47433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049400" y="225576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2857680" y="2247840"/>
            <a:ext cx="285480" cy="293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4714920" y="227484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6500880" y="226368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8429760" y="2247840"/>
            <a:ext cx="285480" cy="293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7"/>
          <a:stretch/>
        </p:blipFill>
        <p:spPr>
          <a:xfrm>
            <a:off x="1033560" y="4446720"/>
            <a:ext cx="285480" cy="293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8"/>
          <a:stretch/>
        </p:blipFill>
        <p:spPr>
          <a:xfrm>
            <a:off x="2843280" y="444024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9"/>
          <a:stretch/>
        </p:blipFill>
        <p:spPr>
          <a:xfrm>
            <a:off x="4700520" y="4465800"/>
            <a:ext cx="285840" cy="2934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10"/>
          <a:stretch/>
        </p:blipFill>
        <p:spPr>
          <a:xfrm>
            <a:off x="6486480" y="4454640"/>
            <a:ext cx="285840" cy="2934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11"/>
          <a:stretch/>
        </p:blipFill>
        <p:spPr>
          <a:xfrm>
            <a:off x="8415360" y="4440240"/>
            <a:ext cx="28584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23760" y="1257480"/>
            <a:ext cx="9096480" cy="4343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2"/>
          <a:stretch/>
        </p:blipFill>
        <p:spPr>
          <a:xfrm>
            <a:off x="795240" y="192096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3"/>
          <a:stretch/>
        </p:blipFill>
        <p:spPr>
          <a:xfrm>
            <a:off x="642960" y="164304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4"/>
          <a:stretch/>
        </p:blipFill>
        <p:spPr>
          <a:xfrm>
            <a:off x="642960" y="239868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5"/>
          <a:stretch/>
        </p:blipFill>
        <p:spPr>
          <a:xfrm>
            <a:off x="571680" y="3135240"/>
            <a:ext cx="285480" cy="293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6"/>
          <a:stretch/>
        </p:blipFill>
        <p:spPr>
          <a:xfrm>
            <a:off x="582480" y="3871800"/>
            <a:ext cx="28584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162000" y="1905120"/>
            <a:ext cx="8820000" cy="33242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2"/>
          <a:stretch/>
        </p:blipFill>
        <p:spPr>
          <a:xfrm>
            <a:off x="785880" y="227808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3"/>
          <a:stretch/>
        </p:blipFill>
        <p:spPr>
          <a:xfrm>
            <a:off x="785880" y="263520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4"/>
          <a:stretch/>
        </p:blipFill>
        <p:spPr>
          <a:xfrm>
            <a:off x="763560" y="306396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5"/>
          <a:stretch/>
        </p:blipFill>
        <p:spPr>
          <a:xfrm>
            <a:off x="785880" y="342108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6"/>
          <a:stretch/>
        </p:blipFill>
        <p:spPr>
          <a:xfrm>
            <a:off x="785880" y="3778200"/>
            <a:ext cx="28584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4:41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